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himes.wav" ContentType="audio/x-wav"/>
  <Override PartName="/ppt/media/zapbig0g.wav" ContentType="audio/x-wav"/>
  <Override PartName="/ppt/media/bserie06.wav" ContentType="audio/x-wav"/>
  <Override PartName="/ppt/media/jetflyby2.wav" ContentType="audio/x-wav"/>
  <Override PartName="/ppt/media/projctor.wav" ContentType="audio/x-wav"/>
  <Override PartName="/ppt/media/ricochet.wav" ContentType="audio/x-wav"/>
  <Override PartName="/ppt/media/laser.wav" ContentType="audio/x-wav"/>
  <Override PartName="/ppt/media/lzipup01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A55E-D774-4612-889E-4247F084C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C6CB-8C3A-4E11-A6CD-214688E42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47C7-7659-4DC2-A547-1418B7835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9663-2BE8-41DE-BF71-6BB51288F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8119-05FF-4D98-91DC-CFEC722DD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4A6F-D764-4EBF-8621-662E22B00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9726-AC63-4FE8-B357-AE1EFCE8C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6C84-0B03-41C9-A91B-EAB2549F4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6B8A-38FA-45BA-BE57-D1F33C7FE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A3B9-3332-43AF-BFF0-90D52C4B7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5403-F882-40B4-9FB6-DA41AD8C7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3EBF-41D1-45CD-895E-A32AFEB3A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B8E98-0154-4FE3-83E5-5B35381F6D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zapbig0g.wav"/><Relationship Id="rId4" Type="http://schemas.openxmlformats.org/officeDocument/2006/relationships/audio" Target="../media/bserie06.wav"/><Relationship Id="rId5" Type="http://schemas.openxmlformats.org/officeDocument/2006/relationships/audio" Target="../media/bserie06.wav"/><Relationship Id="rId6" Type="http://schemas.openxmlformats.org/officeDocument/2006/relationships/audio" Target="../media/bserie06.wav"/><Relationship Id="rId7" Type="http://schemas.openxmlformats.org/officeDocument/2006/relationships/audio" Target="../media/bserie06.wav"/><Relationship Id="rId8" Type="http://schemas.openxmlformats.org/officeDocument/2006/relationships/audio" Target="../media/bserie06.wav"/><Relationship Id="rId9" Type="http://schemas.openxmlformats.org/officeDocument/2006/relationships/audio" Target="../media/bserie06.wav"/><Relationship Id="rId10" Type="http://schemas.openxmlformats.org/officeDocument/2006/relationships/audio" Target="../media/bserie06.wav"/><Relationship Id="rId11" Type="http://schemas.openxmlformats.org/officeDocument/2006/relationships/audio" Target="../media/projctor.wav"/><Relationship Id="rId12" Type="http://schemas.openxmlformats.org/officeDocument/2006/relationships/audio" Target="../media/ricochet.wav"/><Relationship Id="rId13" Type="http://schemas.openxmlformats.org/officeDocument/2006/relationships/audio" Target="../media/laser.wav"/><Relationship Id="rId14" Type="http://schemas.openxmlformats.org/officeDocument/2006/relationships/audio" Target="../media/projctor.wav"/><Relationship Id="rId15" Type="http://schemas.openxmlformats.org/officeDocument/2006/relationships/audio" Target="../media/laser.wav"/><Relationship Id="rId1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zapbig0g.wav"/><Relationship Id="rId3" Type="http://schemas.openxmlformats.org/officeDocument/2006/relationships/audio" Target="../media/bserie06.wav"/><Relationship Id="rId4" Type="http://schemas.openxmlformats.org/officeDocument/2006/relationships/audio" Target="../media/bserie06.wav"/><Relationship Id="rId5" Type="http://schemas.openxmlformats.org/officeDocument/2006/relationships/audio" Target="../media/bserie06.wav"/><Relationship Id="rId6" Type="http://schemas.openxmlformats.org/officeDocument/2006/relationships/audio" Target="../media/bserie06.wav"/><Relationship Id="rId7" Type="http://schemas.openxmlformats.org/officeDocument/2006/relationships/audio" Target="../media/bserie06.wav"/><Relationship Id="rId8" Type="http://schemas.openxmlformats.org/officeDocument/2006/relationships/audio" Target="../media/bserie06.wav"/><Relationship Id="rId9" Type="http://schemas.openxmlformats.org/officeDocument/2006/relationships/audio" Target="../media/projctor.wav"/><Relationship Id="rId10" Type="http://schemas.openxmlformats.org/officeDocument/2006/relationships/audio" Target="../media/lzipup01.wav"/><Relationship Id="rId11" Type="http://schemas.openxmlformats.org/officeDocument/2006/relationships/audio" Target="../media/jetflyby2.wav"/><Relationship Id="rId12" Type="http://schemas.openxmlformats.org/officeDocument/2006/relationships/audio" Target="../media/jetflyby2.wav"/><Relationship Id="rId13" Type="http://schemas.openxmlformats.org/officeDocument/2006/relationships/audio" Target="../media/jetflyby2.wav"/><Relationship Id="rId14" Type="http://schemas.openxmlformats.org/officeDocument/2006/relationships/audio" Target="../media/laser.wav"/><Relationship Id="rId15" Type="http://schemas.openxmlformats.org/officeDocument/2006/relationships/audio" Target="../media/projctor.wav"/><Relationship Id="rId16" Type="http://schemas.openxmlformats.org/officeDocument/2006/relationships/audio" Target="../media/laser.wav"/><Relationship Id="rId1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zapbig0g.wav"/><Relationship Id="rId3" Type="http://schemas.openxmlformats.org/officeDocument/2006/relationships/audio" Target="../media/bserie06.wav"/><Relationship Id="rId4" Type="http://schemas.openxmlformats.org/officeDocument/2006/relationships/audio" Target="../media/bserie06.wav"/><Relationship Id="rId5" Type="http://schemas.openxmlformats.org/officeDocument/2006/relationships/audio" Target="../media/bserie06.wav"/><Relationship Id="rId6" Type="http://schemas.openxmlformats.org/officeDocument/2006/relationships/audio" Target="../media/bserie06.wav"/><Relationship Id="rId7" Type="http://schemas.openxmlformats.org/officeDocument/2006/relationships/audio" Target="../media/bserie06.wav"/><Relationship Id="rId8" Type="http://schemas.openxmlformats.org/officeDocument/2006/relationships/audio" Target="../media/bserie06.wav"/><Relationship Id="rId9" Type="http://schemas.openxmlformats.org/officeDocument/2006/relationships/audio" Target="../media/bserie06.wav"/><Relationship Id="rId10" Type="http://schemas.openxmlformats.org/officeDocument/2006/relationships/audio" Target="../media/bserie06.wav"/><Relationship Id="rId11" Type="http://schemas.openxmlformats.org/officeDocument/2006/relationships/audio" Target="../media/projctor.wav"/><Relationship Id="rId12" Type="http://schemas.openxmlformats.org/officeDocument/2006/relationships/audio" Target="../media/lzipup01.wav"/><Relationship Id="rId13" Type="http://schemas.openxmlformats.org/officeDocument/2006/relationships/audio" Target="../media/jetflyby2.wav"/><Relationship Id="rId14" Type="http://schemas.openxmlformats.org/officeDocument/2006/relationships/audio" Target="../media/jetflyby2.wav"/><Relationship Id="rId15" Type="http://schemas.openxmlformats.org/officeDocument/2006/relationships/audio" Target="../media/jetflyby2.wav"/><Relationship Id="rId16" Type="http://schemas.openxmlformats.org/officeDocument/2006/relationships/audio" Target="../media/laser.wav"/><Relationship Id="rId17" Type="http://schemas.openxmlformats.org/officeDocument/2006/relationships/audio" Target="../media/projctor.wav"/><Relationship Id="rId18" Type="http://schemas.openxmlformats.org/officeDocument/2006/relationships/audio" Target="../media/laser.wav"/><Relationship Id="rId1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zapbig0g.wav"/><Relationship Id="rId3" Type="http://schemas.openxmlformats.org/officeDocument/2006/relationships/audio" Target="../media/bserie06.wav"/><Relationship Id="rId4" Type="http://schemas.openxmlformats.org/officeDocument/2006/relationships/audio" Target="../media/bserie06.wav"/><Relationship Id="rId5" Type="http://schemas.openxmlformats.org/officeDocument/2006/relationships/audio" Target="../media/bserie06.wav"/><Relationship Id="rId6" Type="http://schemas.openxmlformats.org/officeDocument/2006/relationships/audio" Target="../media/bserie06.wav"/><Relationship Id="rId7" Type="http://schemas.openxmlformats.org/officeDocument/2006/relationships/audio" Target="../media/bserie06.wav"/><Relationship Id="rId8" Type="http://schemas.openxmlformats.org/officeDocument/2006/relationships/audio" Target="../media/bserie06.wav"/><Relationship Id="rId9" Type="http://schemas.openxmlformats.org/officeDocument/2006/relationships/audio" Target="../media/bserie06.wav"/><Relationship Id="rId10" Type="http://schemas.openxmlformats.org/officeDocument/2006/relationships/audio" Target="../media/bserie06.wav"/><Relationship Id="rId11" Type="http://schemas.openxmlformats.org/officeDocument/2006/relationships/audio" Target="../media/projctor.wav"/><Relationship Id="rId12" Type="http://schemas.openxmlformats.org/officeDocument/2006/relationships/audio" Target="../media/lzipup01.wav"/><Relationship Id="rId13" Type="http://schemas.openxmlformats.org/officeDocument/2006/relationships/audio" Target="../media/jetflyby2.wav"/><Relationship Id="rId14" Type="http://schemas.openxmlformats.org/officeDocument/2006/relationships/audio" Target="../media/jetflyby2.wav"/><Relationship Id="rId15" Type="http://schemas.openxmlformats.org/officeDocument/2006/relationships/audio" Target="../media/jetflyby2.wav"/><Relationship Id="rId16" Type="http://schemas.openxmlformats.org/officeDocument/2006/relationships/audio" Target="../media/laser.wav"/><Relationship Id="rId17" Type="http://schemas.openxmlformats.org/officeDocument/2006/relationships/audio" Target="../media/projctor.wav"/><Relationship Id="rId18" Type="http://schemas.openxmlformats.org/officeDocument/2006/relationships/audio" Target="../media/laser.wav"/><Relationship Id="rId1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lzipup01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8.1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04920" y="1523880"/>
            <a:ext cx="1828800" cy="642600"/>
          </a:xfrm>
          <a:prstGeom prst="rect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edi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0" y="1143000"/>
            <a:ext cx="6400800" cy="1556280"/>
          </a:xfrm>
          <a:prstGeom prst="rect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middle number in a group of numbers when the numbers are in order from smallest to large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3886200"/>
            <a:ext cx="1828800" cy="642600"/>
          </a:xfrm>
          <a:prstGeom prst="rect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ode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86000" y="3657600"/>
            <a:ext cx="6400800" cy="1068840"/>
          </a:xfrm>
          <a:prstGeom prst="rect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number that appears the most often in a group of numb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8.1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114300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Find the median, and mode of the da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167652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996600"/>
              </a:buClr>
              <a:buSzPct val="12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6600"/>
                </a:solidFill>
                <a:latin typeface="Times New Roman"/>
              </a:rPr>
              <a:t>8,   7,   6,   9,   11,   5,   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791320" y="1600200"/>
            <a:ext cx="33526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00"/>
                </a:solidFill>
                <a:latin typeface="Georgia"/>
              </a:rPr>
              <a:t>Write the numbers in order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362320"/>
            <a:ext cx="53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Times New Roman"/>
              </a:rPr>
              <a:t>5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52480" y="236232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Times New Roman"/>
              </a:rPr>
              <a:t>6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0" y="236232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Times New Roman"/>
              </a:rPr>
              <a:t>6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819520" y="2362320"/>
            <a:ext cx="53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Times New Roman"/>
              </a:rPr>
              <a:t>7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352680" y="236232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Times New Roman"/>
              </a:rPr>
              <a:t>8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86200" y="236232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Times New Roman"/>
              </a:rPr>
              <a:t>9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419720" y="236232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Times New Roman"/>
              </a:rPr>
              <a:t>1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90720" y="327672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Media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2743200" y="3200400"/>
                <a:ext cx="102708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" name=""/>
          <p:cNvSpPr/>
          <p:nvPr/>
        </p:nvSpPr>
        <p:spPr>
          <a:xfrm>
            <a:off x="2743200" y="2362320"/>
            <a:ext cx="685800" cy="685800"/>
          </a:xfrm>
          <a:prstGeom prst="ellipse">
            <a:avLst/>
          </a:prstGeom>
          <a:noFill/>
          <a:ln w="442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41972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Mod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2666880" y="4343400"/>
                <a:ext cx="95112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8.1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8600" y="114300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Find the median, and mode of the da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7200" y="167652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996600"/>
              </a:buClr>
              <a:buSzPct val="120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6600"/>
                </a:solidFill>
                <a:latin typeface="Times New Roman"/>
              </a:rPr>
              <a:t>10,   14,   13,   10,   11,   1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791320" y="1600200"/>
            <a:ext cx="33526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00"/>
                </a:solidFill>
                <a:latin typeface="Georgia"/>
              </a:rPr>
              <a:t>Write the numbers in order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66680" y="236232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Times New Roman"/>
              </a:rPr>
              <a:t>10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828800" y="236232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Times New Roman"/>
              </a:rPr>
              <a:t>10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590920" y="236232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Times New Roman"/>
              </a:rPr>
              <a:t>11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352680" y="236232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Times New Roman"/>
              </a:rPr>
              <a:t>13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114800" y="236232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Times New Roman"/>
              </a:rPr>
              <a:t>14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876920" y="236232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Times New Roman"/>
              </a:rPr>
              <a:t>1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066680" y="4038480"/>
            <a:ext cx="175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Media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2895480" y="3962520"/>
                <a:ext cx="128916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1219320" y="518148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Mod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2608200" y="5105520"/>
                <a:ext cx="122256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6" name=""/>
          <p:cNvSpPr/>
          <p:nvPr/>
        </p:nvSpPr>
        <p:spPr>
          <a:xfrm flipV="1">
            <a:off x="3352680" y="2819160"/>
            <a:ext cx="0" cy="60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5029200" y="2971800"/>
                <a:ext cx="1752480" cy="14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6781680" y="2971800"/>
                <a:ext cx="1252800" cy="14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8015400" y="3352680"/>
                <a:ext cx="112860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8.1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8600" y="114300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Find the median, and mode of the da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57200" y="167652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996600"/>
              </a:buClr>
              <a:buSzPct val="120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6600"/>
                </a:solidFill>
                <a:latin typeface="Times New Roman"/>
              </a:rPr>
              <a:t>4,   5,   3,   4,   5,   5,   4,  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791320" y="1600200"/>
            <a:ext cx="33526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00"/>
                </a:solidFill>
                <a:latin typeface="Georgia"/>
              </a:rPr>
              <a:t>Write the numbers in order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066680" y="4038480"/>
            <a:ext cx="175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Media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038400" y="3962520"/>
                <a:ext cx="100188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6" name=""/>
          <p:cNvSpPr/>
          <p:nvPr/>
        </p:nvSpPr>
        <p:spPr>
          <a:xfrm>
            <a:off x="1219320" y="518148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Mod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2743200" y="5127480"/>
                <a:ext cx="95076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8" name=""/>
          <p:cNvSpPr/>
          <p:nvPr/>
        </p:nvSpPr>
        <p:spPr>
          <a:xfrm flipV="1">
            <a:off x="3200400" y="2819160"/>
            <a:ext cx="0" cy="60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5216400" y="2971800"/>
                <a:ext cx="1378080" cy="14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6629400" y="2971800"/>
                <a:ext cx="960480" cy="14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7696080" y="3429000"/>
                <a:ext cx="87804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2" name=""/>
          <p:cNvSpPr/>
          <p:nvPr/>
        </p:nvSpPr>
        <p:spPr>
          <a:xfrm>
            <a:off x="1066680" y="236232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Times New Roman"/>
              </a:rPr>
              <a:t>3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600200" y="236232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Times New Roman"/>
              </a:rPr>
              <a:t>4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133720" y="236232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Times New Roman"/>
              </a:rPr>
              <a:t>4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666880" y="236232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Times New Roman"/>
              </a:rPr>
              <a:t>4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200400" y="236232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Times New Roman"/>
              </a:rPr>
              <a:t>4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952880" y="236232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733920" y="236232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Times New Roman"/>
              </a:rPr>
              <a:t>5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343400" y="236232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Times New Roman"/>
              </a:rPr>
              <a:t>5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8.1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" y="114300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Find the median, and mode of the da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" y="167652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996600"/>
              </a:buClr>
              <a:buSzPct val="120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6600"/>
                </a:solidFill>
                <a:latin typeface="Times New Roman"/>
              </a:rPr>
              <a:t>9,   6,   4,   21,   2,   11,   18,   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791320" y="2209680"/>
            <a:ext cx="33526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00"/>
                </a:solidFill>
                <a:latin typeface="Georgia"/>
              </a:rPr>
              <a:t>Write the numbers in order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4038480"/>
            <a:ext cx="175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Media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2895480" y="3938760"/>
                <a:ext cx="128772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6" name=""/>
          <p:cNvSpPr/>
          <p:nvPr/>
        </p:nvSpPr>
        <p:spPr>
          <a:xfrm>
            <a:off x="1219320" y="518148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Mod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2630520" y="5127480"/>
                <a:ext cx="117792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8" name=""/>
          <p:cNvSpPr/>
          <p:nvPr/>
        </p:nvSpPr>
        <p:spPr>
          <a:xfrm flipV="1">
            <a:off x="3200400" y="2819160"/>
            <a:ext cx="0" cy="60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5132520" y="3048120"/>
                <a:ext cx="1546200" cy="14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629400" y="3048120"/>
                <a:ext cx="1252440" cy="14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7848720" y="3505320"/>
                <a:ext cx="112860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1066680" y="236232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Times New Roman"/>
              </a:rPr>
              <a:t>2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600200" y="236232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Times New Roman"/>
              </a:rPr>
              <a:t>4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133720" y="236232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Times New Roman"/>
              </a:rPr>
              <a:t>6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66880" y="236232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Times New Roman"/>
              </a:rPr>
              <a:t>9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124080" y="236232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Times New Roman"/>
              </a:rPr>
              <a:t>11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236232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Times New Roman"/>
              </a:rPr>
              <a:t>2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9880" y="236232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Times New Roman"/>
              </a:rPr>
              <a:t>11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495680" y="236232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Times New Roman"/>
              </a:rPr>
              <a:t>18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1335240"/>
            <a:ext cx="914400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Page 215, 8 – 11 #1-8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orksheet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8T22:36:43Z</dcterms:created>
  <dc:creator>Teacher</dc:creator>
  <dc:description/>
  <dc:language>en-US</dc:language>
  <cp:lastModifiedBy>damon.skelton</cp:lastModifiedBy>
  <dcterms:modified xsi:type="dcterms:W3CDTF">2005-01-24T15:04:17Z</dcterms:modified>
  <cp:revision>80</cp:revision>
  <dc:subject/>
  <dc:title>PowerPoint Presentation</dc:title>
</cp:coreProperties>
</file>